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jpeg" ContentType="image/jpeg"/>
  <Override PartName="/ppt/media/image5.gif" ContentType="image/gif"/>
  <Override PartName="/ppt/media/image8.wmf" ContentType="image/x-wmf"/>
  <Override PartName="/ppt/media/image7.gif" ContentType="image/gif"/>
  <Override PartName="/ppt/media/image9.wmf" ContentType="image/x-wmf"/>
  <Override PartName="/ppt/media/image10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00EF-1B15-4099-B1CC-F18FB73A2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667A-398C-4551-BB8C-A8A683337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88FF-F8B6-4608-93AF-F79061798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3D1C-E9FB-402F-89E3-0018B90FC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05CB-46DF-48FC-AC13-C89BA95D4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F844-96B6-45F7-99A9-D73600C20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EF42-A239-4989-A731-5D7D6274E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7F98-8B4D-4866-94AB-F294F35BE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71F5-A87F-4565-BD65-7CFC9D5D5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0BC7-2799-4B64-95A3-02E5469FC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28C5-48A3-4EC9-9F66-60432EE50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C22D-31E7-4096-92DA-2849AC27B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C167-734E-422B-B790-DEBCF3FE4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F2AD-9C6A-47C4-98EB-0F9D28A25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2637-1078-4046-8A4C-F16BD33B6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70D-2975-4D2D-BF51-FC32072F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3FDD-9F15-4B1B-B737-E130D247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792-B5E9-4D5B-8844-C09D89E9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DD06-1BD0-40A6-B7CB-A38EADA7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C067-13B0-4730-AF22-DFA9B843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3FF-9027-4A15-BBE9-25EEB56F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2C49-BA20-4520-AA6C-FCB69D0C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835-4A82-4D7E-91D9-7F3F086D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4DBC-B6ED-4278-B5B0-43BCCB20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76C0-CA08-4914-8409-F40E8E92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F401-A1B8-48EA-BE3A-D3AC3EBF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E27C-A88E-4722-9DA1-BF9D1336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365A-9C4C-4CB0-B06A-7F6CC90F9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uational Lead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343347"/>
          <p:cNvPicPr/>
          <p:nvPr/>
        </p:nvPicPr>
        <p:blipFill>
          <a:blip r:embed="rId1"/>
          <a:stretch/>
        </p:blipFill>
        <p:spPr>
          <a:xfrm>
            <a:off x="2743200" y="152280"/>
            <a:ext cx="37339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of R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le and Wi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s boss informed of ta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es on one’s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s the good, bad, and the u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effective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to high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j0215538"/>
          <p:cNvPicPr/>
          <p:nvPr/>
        </p:nvPicPr>
        <p:blipFill>
          <a:blip r:embed="rId1"/>
          <a:stretch/>
        </p:blipFill>
        <p:spPr>
          <a:xfrm>
            <a:off x="5334120" y="1905120"/>
            <a:ext cx="243828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~AUT0001"/>
          <p:cNvPicPr/>
          <p:nvPr/>
        </p:nvPicPr>
        <p:blipFill>
          <a:blip r:embed="rId1"/>
          <a:stretch/>
        </p:blipFill>
        <p:spPr>
          <a:xfrm>
            <a:off x="533520" y="0"/>
            <a:ext cx="788976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Appropriat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want to accomp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adiness lev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ction to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of leadership interven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follow-up is requi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2" descr="j0234461"/>
          <p:cNvPicPr/>
          <p:nvPr/>
        </p:nvPicPr>
        <p:blipFill>
          <a:blip r:embed="rId1"/>
          <a:stretch/>
        </p:blipFill>
        <p:spPr>
          <a:xfrm>
            <a:off x="5715000" y="1600200"/>
            <a:ext cx="2438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one best way to influenc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dership style depends on the readiness level of the followers the leader is attempting to influ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ne style is effective in any/or all sit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j0234082"/>
          <p:cNvPicPr/>
          <p:nvPr/>
        </p:nvPicPr>
        <p:blipFill>
          <a:blip r:embed="rId1"/>
          <a:stretch/>
        </p:blipFill>
        <p:spPr>
          <a:xfrm>
            <a:off x="5264280" y="1924200"/>
            <a:ext cx="28051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tuational leadership is then based on an interplay among:</a:t>
            </a:r>
            <a:br>
              <a:rPr sz="28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 of guidance a leader g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 of socio-emotional support provided by the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ess level that followers exhibit in th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s concept was developed to help leaders in various roles become more effective in their interactions with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ship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48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CONCEPT OF SITUATIONAL LEADERSHI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ENSIONS INCLUD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Behavior- Leader Spells out the duties and responsibilities of the group or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Behavior- Leader engages in two-way or multiway commun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0233018"/>
          <p:cNvPicPr/>
          <p:nvPr/>
        </p:nvPicPr>
        <p:blipFill>
          <a:blip r:embed="rId1"/>
          <a:stretch/>
        </p:blipFill>
        <p:spPr>
          <a:xfrm>
            <a:off x="5791320" y="2057400"/>
            <a:ext cx="28954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Leadership Sty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-High Task/Low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-High Task/High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3-High Relationship/Low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4-Low Relationship/Low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” indicates above-average amounts of the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” indicates below-average amounts of the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j0286667"/>
          <p:cNvPicPr/>
          <p:nvPr/>
        </p:nvPicPr>
        <p:blipFill>
          <a:blip r:embed="rId1"/>
          <a:stretch/>
        </p:blipFill>
        <p:spPr>
          <a:xfrm>
            <a:off x="6248520" y="1676520"/>
            <a:ext cx="17524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ary Factors Which Influence Effective Lead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Associ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ollow"/>
          <p:cNvPicPr/>
          <p:nvPr/>
        </p:nvPicPr>
        <p:blipFill>
          <a:blip r:embed="rId1"/>
          <a:stretch/>
        </p:blipFill>
        <p:spPr>
          <a:xfrm>
            <a:off x="4343400" y="1676520"/>
            <a:ext cx="4086360" cy="3886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1066680" y="56386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Self-Fulfilling Prophecy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nents of Readines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ility and Willing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-understanding of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-proficiency of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-demonstration of ability, while performing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-demonstration of assurance of performing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ment-duty of performing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-desire to perform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Readiness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1-Unable and unw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2-Unable but w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3-Able but unw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4-Able and w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j0284133"/>
          <p:cNvPicPr/>
          <p:nvPr/>
        </p:nvPicPr>
        <p:blipFill>
          <a:blip r:embed="rId1"/>
          <a:stretch/>
        </p:blipFill>
        <p:spPr>
          <a:xfrm>
            <a:off x="5410080" y="2971800"/>
            <a:ext cx="2743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of R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Unable and Unwill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orming tasks or acceptabl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imid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lear about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ra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fin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ing or passing the b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sive of uncomfo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j0078730"/>
          <p:cNvPicPr/>
          <p:nvPr/>
        </p:nvPicPr>
        <p:blipFill>
          <a:blip r:embed="rId1"/>
          <a:stretch/>
        </p:blipFill>
        <p:spPr>
          <a:xfrm>
            <a:off x="5361120" y="1828800"/>
            <a:ext cx="218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of R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ble but will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xious or exc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ed and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 moderate 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ive to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husi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0" descr="j0234686"/>
          <p:cNvPicPr/>
          <p:nvPr/>
        </p:nvPicPr>
        <p:blipFill>
          <a:blip r:embed="rId1"/>
          <a:stretch/>
        </p:blipFill>
        <p:spPr>
          <a:xfrm>
            <a:off x="5562720" y="2438280"/>
            <a:ext cx="2361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of R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le but Unwi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 of ability 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sitant to finish or move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whelmed, scared, or conf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uctant to perform s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surance often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j0232100"/>
          <p:cNvPicPr/>
          <p:nvPr/>
        </p:nvPicPr>
        <p:blipFill>
          <a:blip r:embed="rId1"/>
          <a:stretch/>
        </p:blipFill>
        <p:spPr>
          <a:xfrm>
            <a:off x="5715000" y="1752480"/>
            <a:ext cx="14493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1:37:38Z</dcterms:created>
  <dc:creator> </dc:creator>
  <dc:description/>
  <dc:language>en-US</dc:language>
  <cp:lastModifiedBy>AEURY</cp:lastModifiedBy>
  <dcterms:modified xsi:type="dcterms:W3CDTF">2009-10-12T16:21:07Z</dcterms:modified>
  <cp:revision>15</cp:revision>
  <dc:subject/>
  <dc:title>Chapter 8 Situational Leadership</dc:title>
</cp:coreProperties>
</file>